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DRUMROLL.WAV" ContentType="audio/x-wav"/>
  <Override PartName="/ppt/media/image4.jpeg" ContentType="image/jpeg"/>
  <Override PartName="/ppt/media/image6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CFDE-E429-4B45-928C-CDBCEF8AE86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huge dinosaur is called the Tyrannosaurus Rex.  It was a meat –eating dinosaur.  It had tiny arms each with two fingers.  The T. Rex could eat 500 lbs. of meat and bones at one time!  It weighed about 5 to 7 t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rannosaurus R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uge dinosaur is called the Tyrannosaurus Rex.  It was a meat –eating dinosaur.  It had tiny arms each with two fingers.  The T. Rex could eat 500 lbs. of meat and bones at one time!  It weighed about 5 to 7 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rannosaurus R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inosaur is a Stegosaurus.  It is a plant eating dinosaur.  It has a small brain that is only the size of  a walnut.  It has 17 bony plates that runs down it’s back.  The back legs of the Stegosaurus are twice as long as the front legs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gosau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dinosaur is a Stegosaurus.  It is a plant eating dinosaur.  It has a small brain that is only the size of  a walnut.  It has 17 bony plates that runs down it’s back.  The back legs of the Stegosaurus are twice as long as the front legs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gosa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flying reptile is a Pteranodon and it means “Winged and Toothless.”  It’s wingspan is 25-30 ft. long and it’s weight is about 55 lbs.  A crest is on his head and it has a really short tail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teranod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lying reptile is a Pteranodon and it means “Winged and Toothless.”  It’s wingspan is 25-30 ft. long and it’s weight is about 55 lbs.  A crest is on his head and it has a really short tail.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teranod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lociraptor was a meat-eating dinosaur.  It might have been able to run up to 40 mph for short runs.  It was estimated to be about 5 to 6 ft.long and about 3 ft. tall.  It had a very stiff tail to let it make very sharp turns.  The Velociraptor was one of the smartest dinosau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rap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lociraptor was a meat-eating dinosaur.  It might have been able to run up to 40 mph for short runs.  It was estimated to be about 5 to 6 ft.long and about 3 ft. tall.  It had a very stiff tail to let it make very sharp turns.  The Velociraptor was one of the smartest dinosau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locir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Plesiosaurus and Plesiosaurus means  “near lizard.”  It was roughly 7.6 ft. long and weighed about 200 lbs.  This dinosaur had a short tail, small head, and its front flippers were longer than its back flipp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siosau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Plesiosaurus and Plesiosaurus means  “near lizard.”  It was roughly 7.6 ft. long and weighed about 200 lbs.  This dinosaur had a short tail, small head, and its front flippers were longer than its back flip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siosa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6E97-DB97-4062-9C90-54F36419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DE8C-28E3-4492-A424-62B91DEE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98A1-0599-42E5-AF38-F0C73F22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DD3F-AD72-4CD5-95C5-DCB7A034F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7C0E-F52D-4BD4-B3C6-44B04BEDE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3586-FB66-445C-B2CC-D1888672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2D4C-5F09-44DB-B610-D327B35F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BC9D-D892-46A6-AF41-5C615D41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965C-815D-4D0D-BC5D-EA31BB25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0CA7-EA64-4ED8-82B8-16E7F693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974D-CBD0-4D7D-86D9-950D01F3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2C2D-C8F7-488A-9DC9-1D74F66D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E1B7-1749-4B77-8E2B-BBF6B3C2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0C04-1337-492C-A213-FF89880D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A9C8-6D57-42DA-89F5-D50F13D4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3324-05E1-4043-B9D7-CE7A93200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C0DC-3EE8-42E1-83D4-019943038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04C4C-F77E-4ADF-A1AE-67F2AEC73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1ECAB-7FED-44EB-84FE-51981700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AA603-F06D-4033-B68B-6282C00C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87D9F-8243-49B3-9A6C-C036902A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BD8BE-2988-4997-AEED-936C134C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F852-526E-4BC0-B917-D3268231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64FB3-0492-4655-BDD3-F0E455EC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5E677-5314-4F92-A148-824E6FB4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4FD94-D70A-4AA3-8A33-FB638ECA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842E4-9901-430D-AE8F-7385F252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EBC7C-FFAC-4529-AF8B-F94CAE1A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F22AB-7545-4351-8C89-D99817471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85F91-49A3-4D56-934E-4A81EE0ED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49F59-183D-46DE-A300-828803C12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77905-3D67-4EA4-8DD3-AA625B70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4537F-62CF-4890-A301-06AE0199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2B41-6CA9-4EA5-AF12-0C40E6EC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2EB5B-B66C-4C5B-81DF-7DC9C5FC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2D222-EB05-49B6-89B1-3FFC7F08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B947D-7512-416B-AC5E-71C115F5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94809-ED56-4478-A38A-D34F4BEC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C459A-FA57-4EAC-9D23-D411AEBA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221AF-E252-4FEB-A442-0C4E1C0C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3CABE-4AC5-43B7-B782-16A76317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FC268-8845-47C0-BC0C-E08BD6F84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22302-61AD-4644-8E91-F8FB8E08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C4FFD-5B91-46DF-9CC1-F4F35ECDC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27DF-F092-43F9-A540-9E126599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53784-EA14-446B-8D03-1B909C21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7DBE1-4A57-4527-82A4-7AA92BDB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26F9D-231E-4A0C-A033-DA97DC24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CCA1D-C801-4AEF-B272-D3C6065B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EE2DE-4803-420D-8284-99BAFA1A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BB68C-E8D1-4B59-9084-E01172C4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A27ED-5482-445B-A871-6E052A66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9B666-F7C7-400A-82B8-37E21207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3A0CE-B63E-4210-BE2B-FD5579DE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5050B-382B-4C58-ACA5-6DE061EBB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4915-81E8-43DD-9241-DB9A3115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74CE3-9B04-4140-9897-BF2F036D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07DC5-4C0B-4AC6-A9DC-9C87D90E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97056-8810-47AC-B22F-7FDE2BB0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BAC1D-CF22-4A40-9344-505E0BB2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3D3DB-FDD8-4D62-81A9-4478E2CB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790C7-5184-4A74-A2D5-997F8A25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B71A6-13E9-4A28-B1C3-BBA4B77F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F0AF5-DAD7-4DF5-8FAA-D90F8B21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E2596-F88F-4579-BBD9-F7EF6311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0F8C2-71C2-40C5-916E-9107699F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3BEA-62D3-4C20-A77A-FD3C94A0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E0E22-7F61-476F-A8A8-A9DDC04A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96419-820E-4A26-BD45-EAFA1DD26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31AE1-B7ED-44EC-B417-005FDE35D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A541E-97EB-4560-AB40-0DF6BE1B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5834A-2069-4F9A-8AA2-FC4C5C5A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128D8-FAE1-478C-ADFB-1BE96BD6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4BA08-167C-4115-9305-CFCC068E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798F7-07C7-4085-9FE5-44997733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9505D-4C9F-43E0-8314-B906172C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F6CF2-8F3F-4BB4-861F-7B579B05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8E36-320E-40AC-A096-007DA825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774E5-762F-4218-9DD4-DB2BBB1F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35576-E666-4307-8098-586FA7EF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F5F23-F6F4-43AC-B88D-C918B51B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2C271-7083-4523-8FB3-ACC30EDBF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0EAB3-7E63-412E-9D3B-04D1E645B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EC79-7608-4B9C-BBB9-1E198E5D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3598-E03E-4F8B-9662-21F6093A6B9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9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2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13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1C69-3B10-4B79-8195-81D96AFC31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2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13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6AC6-7A96-4FDD-9C7B-4D4B332809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1E4B-9F37-40F4-A64D-FC5253BC8E2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77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12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Прямоугольник 13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F0A3-30FF-4615-A10E-621B6DE871C4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225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оугольник 12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оугольник 13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CCF6-B764-4CE7-8FBB-DEB1A55554BD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12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Прямоугольник 13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268E-A6CE-4C6F-9FBE-E940474C157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3" descr="H:\Dinosaurs\tyrannos.jpg"/>
          <p:cNvPicPr/>
          <p:nvPr/>
        </p:nvPicPr>
        <p:blipFill>
          <a:blip r:embed="rId1"/>
          <a:stretch/>
        </p:blipFill>
        <p:spPr>
          <a:xfrm>
            <a:off x="2743200" y="1066680"/>
            <a:ext cx="6400800" cy="38703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5"/>
          <p:cNvSpPr/>
          <p:nvPr/>
        </p:nvSpPr>
        <p:spPr>
          <a:xfrm>
            <a:off x="0" y="50292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huge dinosaur is called the Tyrannosaurus Rex.  It was a meat –eating dinosaur.  It had tiny arms each with two fingers.  The T. Rex could eat 500 lbs. of meat and bones at one time!  It weighed about 5 to 7 t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5"/>
          <p:cNvSpPr/>
          <p:nvPr/>
        </p:nvSpPr>
        <p:spPr>
          <a:xfrm>
            <a:off x="3239280" y="76320"/>
            <a:ext cx="52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Forte"/>
              </a:rPr>
              <a:t>Tyrannosaurus R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H:\Dinosaurs\stegosaurus.jpg"/>
          <p:cNvPicPr/>
          <p:nvPr/>
        </p:nvPicPr>
        <p:blipFill>
          <a:blip r:embed="rId1"/>
          <a:stretch/>
        </p:blipFill>
        <p:spPr>
          <a:xfrm>
            <a:off x="2666880" y="914400"/>
            <a:ext cx="6477120" cy="342900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3"/>
          <p:cNvSpPr/>
          <p:nvPr/>
        </p:nvSpPr>
        <p:spPr>
          <a:xfrm>
            <a:off x="228600" y="464832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228600" y="477504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inosaur is a Stegosaurus.  It is a plant eating dinosaur.  It has a small brain that is only the size of  a walnut.  It has 17 bony plates that runs down it’s back.  The back legs of the Stegosaurus are twice as long as the front legs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Box 6"/>
          <p:cNvSpPr/>
          <p:nvPr/>
        </p:nvSpPr>
        <p:spPr>
          <a:xfrm>
            <a:off x="3735000" y="152280"/>
            <a:ext cx="315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Forte"/>
              </a:rPr>
              <a:t>Stegosaur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Нижний колонтитул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H:\Dinosaurs\pterobig.gif"/>
          <p:cNvPicPr/>
          <p:nvPr/>
        </p:nvPicPr>
        <p:blipFill>
          <a:blip r:embed="rId1"/>
          <a:stretch/>
        </p:blipFill>
        <p:spPr>
          <a:xfrm>
            <a:off x="2590920" y="914400"/>
            <a:ext cx="6553080" cy="39625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3"/>
          <p:cNvSpPr/>
          <p:nvPr/>
        </p:nvSpPr>
        <p:spPr>
          <a:xfrm>
            <a:off x="457200" y="51055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flying reptile is a Pteranodon and it means “Winged and Toothless.”  It’s wingspan is 25-30 ft. long and it’s weight is about 55 lbs.  A crest is on his head and it has a really short tail.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4251240" y="76320"/>
            <a:ext cx="329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Forte"/>
              </a:rPr>
              <a:t>Pteranod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DRUMROLL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H:\Dinosaurs\Velocira.gif"/>
          <p:cNvPicPr/>
          <p:nvPr/>
        </p:nvPicPr>
        <p:blipFill>
          <a:blip r:embed="rId1"/>
          <a:srcRect l="0" t="1536" r="4753" b="13408"/>
          <a:stretch/>
        </p:blipFill>
        <p:spPr>
          <a:xfrm>
            <a:off x="2666880" y="990720"/>
            <a:ext cx="6477120" cy="344808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3"/>
          <p:cNvSpPr/>
          <p:nvPr/>
        </p:nvSpPr>
        <p:spPr>
          <a:xfrm>
            <a:off x="609480" y="4619520"/>
            <a:ext cx="7925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elociraptor was a meat-eating dinosaur.  It might have been able to run up to 40 mph for short runs.  It was estimated to be about 5 to 6 ft.long and about 3 ft. tall.  It had a very stiff tail to let it make very sharp turns.  The Velociraptor was one of the smartest dinosau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Box 5"/>
          <p:cNvSpPr/>
          <p:nvPr/>
        </p:nvSpPr>
        <p:spPr>
          <a:xfrm>
            <a:off x="3746880" y="152280"/>
            <a:ext cx="338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Forte"/>
              </a:rPr>
              <a:t>Velocirap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DRUMROLL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H:\Dinosaurs\plesiosaurus_normal.jpg"/>
          <p:cNvPicPr/>
          <p:nvPr/>
        </p:nvPicPr>
        <p:blipFill>
          <a:blip r:embed="rId1"/>
          <a:srcRect l="5311" t="0" r="7965" b="0"/>
          <a:stretch/>
        </p:blipFill>
        <p:spPr>
          <a:xfrm>
            <a:off x="1676520" y="914400"/>
            <a:ext cx="7467480" cy="402732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914400" y="502920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 Plesiosaurus and Plesiosaurus means  “near lizard.”  It was roughly 7.6 ft. long and weighed about 200 lbs.  This dinosaur had a short tail, small head, and its front flippers were longer than its back flipp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Box 5"/>
          <p:cNvSpPr/>
          <p:nvPr/>
        </p:nvSpPr>
        <p:spPr>
          <a:xfrm>
            <a:off x="3564360" y="76320"/>
            <a:ext cx="350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Forte"/>
              </a:rPr>
              <a:t>Plesiosaur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DRUMROLL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7T18:56:08Z</dcterms:created>
  <dc:creator>Spring Cove School District</dc:creator>
  <dc:description/>
  <dc:language>en-US</dc:language>
  <cp:lastModifiedBy>LEGION</cp:lastModifiedBy>
  <dcterms:modified xsi:type="dcterms:W3CDTF">2018-03-12T09:05:55Z</dcterms:modified>
  <cp:revision>24</cp:revision>
  <dc:subject/>
  <dc:title>PowerPoint Presentation</dc:title>
</cp:coreProperties>
</file>